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21DDC-FDC1-43E6-B760-A26A422DF56C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65B52-F6F7-4F24-AD83-B9D5B13CF254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ángulo 2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ángulo 3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ángulo 4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ángulo 5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932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13777-C620-4237-B433-667687207163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ángulo 2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ángulo 3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ángulo 4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ángulo 5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4932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C4B99-770C-4E0D-A87B-E602576779F1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ángulo 2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ángulo 3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ángulo 4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ángulo 5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4932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A443-4D5D-439C-9B99-C329CB69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4DC-4553-45E3-AD73-9CE9F892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A71B-48C1-4CD9-84A3-09A94F2D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D79-09E1-49AD-8E3D-675C267E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172-2C6F-4637-B000-2D10C68E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C9E-A33F-4306-9458-B84E94EC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B515-E3DB-42D3-88FA-4A4BF7DC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4CF1-E002-43E4-8EB9-12BA77EB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E5AD-E0E3-49D2-8500-AB6D9052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1E3-2D12-493F-80E2-083189E2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955-F618-437C-A315-E1F6F1B1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E5B-5AD4-4AB7-A9B6-4927291C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ED54-F796-4311-8B86-27A467FC001D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450720" y="44280"/>
            <a:ext cx="84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3: -.Metabolismo. Principales nutrientes de autótrofos y heterótrofos. Catabolismo. Anabolismo. Metabolismo de Carbohidratos en los distintos organismos: Animales y Vegetales. Digestión y absorción. Sistema digestivo en individuos heterótrofos. Digestión en rumiantes. Estructuras especializadas.  Distribución de glucosa en una célula animal y una célula vegetal. Degradación de glucosa: glicólisis. Localización celular. Etapas. Producción de energía. Regulación. Balance energético en condiciones de anaerobiosis. Destino del piruvato. Fermentaciones. Degradación de otras hexo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4: Destino del piruvato en condiciones aeróbicas. Complejo de la piruvato deshidrogenasa. Ciclo de Krebs. Localización celular. Balance energético del ciclo. Regulación. Reacciones anapleróticas según el tipo de célula o tejido. Naturaleza anfibólica del ciclo. Sistemas de lanzaderas: Lanzadera del glicerofosfato y lanzadera del malato-aspartato. Balance energético de la degradación de glucosa en condiciones de aerobiosis. Efecto Pasteur. </a:t>
            </a: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Vía de las pentosas. Localización. Importancia metabó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5: Biosíntesis de carbohidratos. Gluconeogénesis. Etapas. Regulación. Costo energético. Ciclos fútiles. Ciclo del glioxilato. Localización. Importancia. Biosíntesis del glucógeno. Regulación coordinada entre la degradación y la síntesis del glucógeno.  Costo energético.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Biosíntesis de almidón.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íntesis fotosintética de glúcidos. Reacciones de fijación y reducción fotosintética del carbono, ciclo de Calvin. Regulación. Fotorrespiración y ruta C4. Biosíntesis de almidón, sacarosa y celulosa en vege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35 F no O de VP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1 CuadroTexto"/>
          <p:cNvSpPr/>
          <p:nvPr/>
        </p:nvSpPr>
        <p:spPr>
          <a:xfrm>
            <a:off x="324000" y="260280"/>
            <a:ext cx="8496000" cy="656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Comic Sans MS"/>
              </a:rPr>
              <a:t>Consideraciones finales sobre la Via de las Pentosas 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3333ff"/>
                </a:solidFill>
                <a:latin typeface="Comic Sans MS"/>
              </a:rPr>
              <a:t>Puede considerarse otra forma de oxidar (aunque solo parcialmente) la glucosa-6-fosfato con producción de CO</a:t>
            </a:r>
            <a:r>
              <a:rPr b="1" lang="es-ES" sz="1800" spc="-1" strike="noStrike" baseline="-25000">
                <a:solidFill>
                  <a:srgbClr val="3333ff"/>
                </a:solidFill>
                <a:latin typeface="Comic Sans MS"/>
              </a:rPr>
              <a:t>2</a:t>
            </a:r>
            <a:r>
              <a:rPr b="1" lang="es-ES" sz="1800" spc="-1" strike="noStrike">
                <a:solidFill>
                  <a:srgbClr val="3333ff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Comic Sans MS"/>
              </a:rPr>
              <a:t>La ruta de las pentosas fosfato es generadora de intermediarios metabólicos para otras v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99cc00"/>
                </a:solidFill>
                <a:latin typeface="Comic Sans MS"/>
              </a:rPr>
              <a:t>El destino real de los azúcares fosfatos (Ribosa-5-P, Gli-3-P, Fru-6-P) depende de las necesidades metabólicas de las células en la que se está produciendo la v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3399"/>
                </a:solidFill>
                <a:uFillTx/>
                <a:latin typeface="Comic Sans MS"/>
              </a:rPr>
              <a:t>En mamíferos</a:t>
            </a:r>
            <a:r>
              <a:rPr b="1" lang="es-AR" sz="1800" spc="-1" strike="noStrike">
                <a:solidFill>
                  <a:srgbClr val="ff3399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s-AR" sz="1800" spc="-1" strike="noStrike">
                <a:solidFill>
                  <a:srgbClr val="ff3399"/>
                </a:solidFill>
                <a:latin typeface="Comic Sans MS"/>
              </a:rPr>
              <a:t>Es muy activa en los tejidos donde se lleva a cabo la síntesis de ácidos grasos y esteroides (utiliza NADPH) glándula mamaria, tejido adiposo, corteza adrenal e hí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1800" spc="-1" strike="noStrike">
                <a:solidFill>
                  <a:srgbClr val="009999"/>
                </a:solidFill>
                <a:latin typeface="Comic Sans MS"/>
              </a:rPr>
              <a:t>También en mamíferos, el NADPH actúa en procesos de desintoxicación dependientes de citocromo P450 en hí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1800" spc="-1" strike="noStrike">
                <a:solidFill>
                  <a:srgbClr val="800080"/>
                </a:solidFill>
                <a:latin typeface="Comic Sans MS"/>
              </a:rPr>
              <a:t>En eritrocitos, NADPH, contribuye a mantener la concentración de Glutatión reducido y disminuir los niveles de metahemoglobina</a:t>
            </a:r>
            <a:r>
              <a:rPr b="1" lang="es-AR" sz="2000" spc="-1" strike="noStrike">
                <a:solidFill>
                  <a:srgbClr val="80008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519120" y="639720"/>
            <a:ext cx="8373960" cy="36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9900"/>
                </a:solidFill>
                <a:uFillTx/>
                <a:latin typeface="Comic Sans MS"/>
              </a:rPr>
              <a:t>En plant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Comic Sans MS"/>
              </a:rPr>
              <a:t>El NADPH ingresa a las mitocondrias vegetales y lleva a la producción d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3333ff"/>
                </a:solidFill>
                <a:latin typeface="Comic Sans MS"/>
              </a:rPr>
              <a:t>Además NADPH es agente reductor en las síntesis de ácidos grasos e isopreno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ff6600"/>
                </a:solidFill>
                <a:latin typeface="Comic Sans MS"/>
              </a:rPr>
              <a:t>La eritrosa-4-P, junto con el fosfoenolpiruvato (de la vía glicolítica), son precursores de la síntesis de los aminoácidos: fenilalanina, tirosina y triptofano, los que luego son precursores de derivados fenólicos como las fitoalexinas, lignina y flavonoides como las antociani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3419640" y="4148280"/>
            <a:ext cx="2016000" cy="2089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2"/>
          <a:stretch/>
        </p:blipFill>
        <p:spPr>
          <a:xfrm>
            <a:off x="5580000" y="4149720"/>
            <a:ext cx="3024360" cy="2087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http://4.bp.blogspot.com/-stfPpeu39xE/TyCLsdzXSkI/AAAAAAAANgo/g8LbKDznexk/s320/kernel.jpg"/>
          <p:cNvPicPr/>
          <p:nvPr/>
        </p:nvPicPr>
        <p:blipFill>
          <a:blip r:embed="rId3"/>
          <a:stretch/>
        </p:blipFill>
        <p:spPr>
          <a:xfrm>
            <a:off x="411120" y="4214880"/>
            <a:ext cx="28036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11280" y="1341360"/>
            <a:ext cx="77040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NALD NICHOLSON, International Union of Biochemistry &amp; Molecular Biology (IUBMB), IUBMB-Nicholson Metabolic Maps, Minimaps &amp; Animaps. Department of Biochemistry and Microbiology, The University, Leeds, England.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ttp://www.iubmb-nicholson.o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-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51648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834560" y="27936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n una célula 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711960" y="1773360"/>
            <a:ext cx="3026160" cy="1295280"/>
            <a:chOff x="3711960" y="1773360"/>
            <a:chExt cx="3026160" cy="1295280"/>
          </a:xfrm>
        </p:grpSpPr>
        <p:sp>
          <p:nvSpPr>
            <p:cNvPr id="53" name="Text Box 5"/>
            <p:cNvSpPr/>
            <p:nvPr/>
          </p:nvSpPr>
          <p:spPr>
            <a:xfrm>
              <a:off x="4434480" y="249264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Glucógeno-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6"/>
            <p:cNvSpPr/>
            <p:nvPr/>
          </p:nvSpPr>
          <p:spPr>
            <a:xfrm>
              <a:off x="371196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>
              <a:off x="4213080" y="2132280"/>
              <a:ext cx="287640" cy="936360"/>
            </a:xfrm>
            <a:prstGeom prst="upArrow">
              <a:avLst>
                <a:gd name="adj1" fmla="val 50000"/>
                <a:gd name="adj2" fmla="val 8138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5064120" y="3068640"/>
            <a:ext cx="3393360" cy="657360"/>
            <a:chOff x="5064120" y="3068640"/>
            <a:chExt cx="3393360" cy="657360"/>
          </a:xfrm>
        </p:grpSpPr>
        <p:sp>
          <p:nvSpPr>
            <p:cNvPr id="57" name="Text Box 9"/>
            <p:cNvSpPr/>
            <p:nvPr/>
          </p:nvSpPr>
          <p:spPr>
            <a:xfrm>
              <a:off x="506412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0"/>
            <p:cNvSpPr/>
            <p:nvPr/>
          </p:nvSpPr>
          <p:spPr>
            <a:xfrm>
              <a:off x="7083360" y="3357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1"/>
            <p:cNvSpPr/>
            <p:nvPr/>
          </p:nvSpPr>
          <p:spPr>
            <a:xfrm>
              <a:off x="5508360" y="3427560"/>
              <a:ext cx="1584000" cy="288720"/>
            </a:xfrm>
            <a:prstGeom prst="rightArrow">
              <a:avLst>
                <a:gd name="adj1" fmla="val 49454"/>
                <a:gd name="adj2" fmla="val 868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2"/>
          <p:cNvGrpSpPr/>
          <p:nvPr/>
        </p:nvGrpSpPr>
        <p:grpSpPr>
          <a:xfrm>
            <a:off x="3853080" y="3932280"/>
            <a:ext cx="2231280" cy="1370160"/>
            <a:chOff x="3853080" y="3932280"/>
            <a:chExt cx="2231280" cy="1370160"/>
          </a:xfrm>
        </p:grpSpPr>
        <p:sp>
          <p:nvSpPr>
            <p:cNvPr id="61" name="Text Box 13"/>
            <p:cNvSpPr/>
            <p:nvPr/>
          </p:nvSpPr>
          <p:spPr>
            <a:xfrm>
              <a:off x="3853080" y="493416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4402440" y="422136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Glicol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5"/>
            <p:cNvSpPr/>
            <p:nvPr/>
          </p:nvSpPr>
          <p:spPr>
            <a:xfrm>
              <a:off x="4211640" y="3932280"/>
              <a:ext cx="289080" cy="1008000"/>
            </a:xfrm>
            <a:prstGeom prst="downArrow">
              <a:avLst>
                <a:gd name="adj1" fmla="val 50000"/>
                <a:gd name="adj2" fmla="val 8717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6"/>
          <p:cNvGrpSpPr/>
          <p:nvPr/>
        </p:nvGrpSpPr>
        <p:grpSpPr>
          <a:xfrm>
            <a:off x="541800" y="3016080"/>
            <a:ext cx="3084120" cy="709920"/>
            <a:chOff x="541800" y="3016080"/>
            <a:chExt cx="3084120" cy="709920"/>
          </a:xfrm>
        </p:grpSpPr>
        <p:sp>
          <p:nvSpPr>
            <p:cNvPr id="65" name="Text Box 17"/>
            <p:cNvSpPr/>
            <p:nvPr/>
          </p:nvSpPr>
          <p:spPr>
            <a:xfrm>
              <a:off x="54180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8"/>
            <p:cNvSpPr/>
            <p:nvPr/>
          </p:nvSpPr>
          <p:spPr>
            <a:xfrm>
              <a:off x="1619280" y="3427560"/>
              <a:ext cx="1657080" cy="288720"/>
            </a:xfrm>
            <a:prstGeom prst="leftArrow">
              <a:avLst>
                <a:gd name="adj1" fmla="val 59343"/>
                <a:gd name="adj2" fmla="val 9839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9"/>
            <p:cNvSpPr/>
            <p:nvPr/>
          </p:nvSpPr>
          <p:spPr>
            <a:xfrm>
              <a:off x="1262880" y="3016080"/>
              <a:ext cx="236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Oval 20"/>
          <p:cNvSpPr/>
          <p:nvPr/>
        </p:nvSpPr>
        <p:spPr>
          <a:xfrm>
            <a:off x="3276720" y="3029040"/>
            <a:ext cx="5224320" cy="971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229200" y="3567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762920" y="18900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Arial"/>
              </a:rPr>
              <a:t>en una célula veg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207040" y="270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3516120" y="1700280"/>
            <a:ext cx="1194120" cy="1584360"/>
            <a:chOff x="3516120" y="1700280"/>
            <a:chExt cx="1194120" cy="1584360"/>
          </a:xfrm>
        </p:grpSpPr>
        <p:sp>
          <p:nvSpPr>
            <p:cNvPr id="73" name="Text Box 6"/>
            <p:cNvSpPr/>
            <p:nvPr/>
          </p:nvSpPr>
          <p:spPr>
            <a:xfrm>
              <a:off x="3516120" y="1700280"/>
              <a:ext cx="119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Sacar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7"/>
            <p:cNvSpPr/>
            <p:nvPr/>
          </p:nvSpPr>
          <p:spPr>
            <a:xfrm>
              <a:off x="3925440" y="2347920"/>
              <a:ext cx="287280" cy="936720"/>
            </a:xfrm>
            <a:prstGeom prst="upArrow">
              <a:avLst>
                <a:gd name="adj1" fmla="val 50000"/>
                <a:gd name="adj2" fmla="val 8151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8"/>
          <p:cNvGrpSpPr/>
          <p:nvPr/>
        </p:nvGrpSpPr>
        <p:grpSpPr>
          <a:xfrm>
            <a:off x="4776480" y="3284640"/>
            <a:ext cx="3393720" cy="657360"/>
            <a:chOff x="4776480" y="3284640"/>
            <a:chExt cx="3393720" cy="657360"/>
          </a:xfrm>
        </p:grpSpPr>
        <p:sp>
          <p:nvSpPr>
            <p:cNvPr id="76" name="Text Box 9"/>
            <p:cNvSpPr/>
            <p:nvPr/>
          </p:nvSpPr>
          <p:spPr>
            <a:xfrm>
              <a:off x="4776480" y="3284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0"/>
            <p:cNvSpPr/>
            <p:nvPr/>
          </p:nvSpPr>
          <p:spPr>
            <a:xfrm>
              <a:off x="6796080" y="3573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1"/>
            <p:cNvSpPr/>
            <p:nvPr/>
          </p:nvSpPr>
          <p:spPr>
            <a:xfrm>
              <a:off x="5221080" y="3643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2"/>
          <p:cNvGrpSpPr/>
          <p:nvPr/>
        </p:nvGrpSpPr>
        <p:grpSpPr>
          <a:xfrm>
            <a:off x="3565800" y="4148280"/>
            <a:ext cx="2231280" cy="1370160"/>
            <a:chOff x="3565800" y="4148280"/>
            <a:chExt cx="2231280" cy="1370160"/>
          </a:xfrm>
        </p:grpSpPr>
        <p:sp>
          <p:nvSpPr>
            <p:cNvPr id="80" name="Text Box 13"/>
            <p:cNvSpPr/>
            <p:nvPr/>
          </p:nvSpPr>
          <p:spPr>
            <a:xfrm>
              <a:off x="3565800" y="515016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4"/>
            <p:cNvSpPr/>
            <p:nvPr/>
          </p:nvSpPr>
          <p:spPr>
            <a:xfrm>
              <a:off x="4115160" y="443736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Glicol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15"/>
            <p:cNvSpPr/>
            <p:nvPr/>
          </p:nvSpPr>
          <p:spPr>
            <a:xfrm>
              <a:off x="3924360" y="4148280"/>
              <a:ext cx="289080" cy="1008000"/>
            </a:xfrm>
            <a:prstGeom prst="downArrow">
              <a:avLst>
                <a:gd name="adj1" fmla="val 50000"/>
                <a:gd name="adj2" fmla="val 8717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Oval 16"/>
          <p:cNvSpPr/>
          <p:nvPr/>
        </p:nvSpPr>
        <p:spPr>
          <a:xfrm>
            <a:off x="2989440" y="3241800"/>
            <a:ext cx="5368680" cy="104436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ángulo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ángulo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672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99"/>
                </a:solidFill>
                <a:latin typeface="Comic Sans MS"/>
              </a:rPr>
              <a:t>VIA DE LAS PENTO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iene lugar en el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itosol celular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gual que la vía glicolítica. </a:t>
            </a: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En células vegetal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también se lleva a cabo en los </a:t>
            </a: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cloroplast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N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es una vía de producción de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Sintetiza NADPH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para la síntesis de ácidos grasos, isoprenoides y esteroides (en tejidos animales y vegetales) y para producir ATP (</a:t>
            </a: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sólo en las mitocondrias de los vegetal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Sintetiza ribosa-5-fosfat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para la síntesis de nucleótidos y ácidos nucle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Produce intermediarios de la vía glicolít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gliceraldehído-3- fosfato y fructosa-6-fosf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9900"/>
                </a:solidFill>
                <a:uFillTx/>
                <a:latin typeface="Arial"/>
              </a:rPr>
              <a:t>Provee el intermediario eritrosa-4-fosfato</a:t>
            </a: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a síntesis de aminoácidos precursores de </a:t>
            </a: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derivados fenólicos en vegetal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ángulo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ángulo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99"/>
                </a:solidFill>
                <a:latin typeface="Comic Sans MS"/>
              </a:rPr>
              <a:t>FASES DE LA VIA DE LAS PENTO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ía de la pentosas consta de dos fases: </a:t>
            </a:r>
            <a:r>
              <a:rPr b="0" lang="es-ES" sz="3200" spc="-1" strike="noStrike">
                <a:solidFill>
                  <a:srgbClr val="3333ff"/>
                </a:solidFill>
                <a:latin typeface="Arial"/>
              </a:rPr>
              <a:t>1) oxidativa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2) no oxidativ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reacciones de la fase oxidativa son irreversi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reacciones de la fase no oxidativa son reversi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gún las necesidades de la célula, es mas activa una fase o la o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672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Comic Sans MS"/>
              </a:rPr>
              <a:t>REACCIONES DE LA FASE OXID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6"/>
          <p:cNvGrpSpPr/>
          <p:nvPr/>
        </p:nvGrpSpPr>
        <p:grpSpPr>
          <a:xfrm>
            <a:off x="1430280" y="3933720"/>
            <a:ext cx="2133720" cy="2644920"/>
            <a:chOff x="1430280" y="3933720"/>
            <a:chExt cx="2133720" cy="2644920"/>
          </a:xfrm>
        </p:grpSpPr>
        <p:sp>
          <p:nvSpPr>
            <p:cNvPr id="94" name="Rectángulo 2"/>
            <p:cNvSpPr/>
            <p:nvPr/>
          </p:nvSpPr>
          <p:spPr>
            <a:xfrm>
              <a:off x="1430280" y="6102360"/>
              <a:ext cx="21337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Imagen 12" descr=""/>
            <p:cNvPicPr/>
            <p:nvPr/>
          </p:nvPicPr>
          <p:blipFill>
            <a:blip r:embed="rId1"/>
            <a:stretch/>
          </p:blipFill>
          <p:spPr>
            <a:xfrm>
              <a:off x="1584360" y="3933720"/>
              <a:ext cx="15843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ángulo 19"/>
            <p:cNvSpPr/>
            <p:nvPr/>
          </p:nvSpPr>
          <p:spPr>
            <a:xfrm>
              <a:off x="1441440" y="6094440"/>
              <a:ext cx="206676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6-fosfoglucon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6"/>
          <p:cNvGrpSpPr/>
          <p:nvPr/>
        </p:nvGrpSpPr>
        <p:grpSpPr>
          <a:xfrm>
            <a:off x="3492360" y="3933720"/>
            <a:ext cx="4967280" cy="2522520"/>
            <a:chOff x="3492360" y="3933720"/>
            <a:chExt cx="4967280" cy="2522520"/>
          </a:xfrm>
        </p:grpSpPr>
        <p:grpSp>
          <p:nvGrpSpPr>
            <p:cNvPr id="98" name="Group 37"/>
            <p:cNvGrpSpPr/>
            <p:nvPr/>
          </p:nvGrpSpPr>
          <p:grpSpPr>
            <a:xfrm>
              <a:off x="3492360" y="4581360"/>
              <a:ext cx="2808000" cy="1355040"/>
              <a:chOff x="3492360" y="4581360"/>
              <a:chExt cx="2808000" cy="1355040"/>
            </a:xfrm>
          </p:grpSpPr>
          <p:sp>
            <p:nvSpPr>
              <p:cNvPr id="99" name="Línea 13"/>
              <p:cNvSpPr/>
              <p:nvPr/>
            </p:nvSpPr>
            <p:spPr>
              <a:xfrm>
                <a:off x="3492360" y="5189400"/>
                <a:ext cx="280800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ángulo 14"/>
              <p:cNvSpPr/>
              <p:nvPr/>
            </p:nvSpPr>
            <p:spPr>
              <a:xfrm>
                <a:off x="3506400" y="4581360"/>
                <a:ext cx="92412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NADP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ángulo 15"/>
              <p:cNvSpPr/>
              <p:nvPr/>
            </p:nvSpPr>
            <p:spPr>
              <a:xfrm>
                <a:off x="4268520" y="4581360"/>
                <a:ext cx="145584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NADPH + H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orma libre 16"/>
              <p:cNvSpPr/>
              <p:nvPr/>
            </p:nvSpPr>
            <p:spPr>
              <a:xfrm>
                <a:off x="3963600" y="4917960"/>
                <a:ext cx="673200" cy="230040"/>
              </a:xfrm>
              <a:prstGeom prst="pie">
                <a:avLst/>
              </a:prstGeom>
              <a:solidFill>
                <a:srgbClr val="f2b6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Elipse 17"/>
              <p:cNvSpPr/>
              <p:nvPr/>
            </p:nvSpPr>
            <p:spPr>
              <a:xfrm>
                <a:off x="5437080" y="4757760"/>
                <a:ext cx="758520" cy="37764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ángulo 20"/>
              <p:cNvSpPr/>
              <p:nvPr/>
            </p:nvSpPr>
            <p:spPr>
              <a:xfrm>
                <a:off x="3811320" y="5298840"/>
                <a:ext cx="2219400" cy="637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Arial"/>
                  </a:rPr>
                  <a:t>6-fosfoglucon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ínea 21"/>
              <p:cNvSpPr/>
              <p:nvPr/>
            </p:nvSpPr>
            <p:spPr>
              <a:xfrm flipV="1">
                <a:off x="5106600" y="4993920"/>
                <a:ext cx="30492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41"/>
            <p:cNvGrpSpPr/>
            <p:nvPr/>
          </p:nvGrpSpPr>
          <p:grpSpPr>
            <a:xfrm>
              <a:off x="6162840" y="3933720"/>
              <a:ext cx="2296800" cy="2522520"/>
              <a:chOff x="6162840" y="3933720"/>
              <a:chExt cx="2296800" cy="2522520"/>
            </a:xfrm>
          </p:grpSpPr>
          <p:pic>
            <p:nvPicPr>
              <p:cNvPr id="107" name="Imagen 6" descr=""/>
              <p:cNvPicPr/>
              <p:nvPr/>
            </p:nvPicPr>
            <p:blipFill>
              <a:blip r:embed="rId2"/>
              <a:stretch/>
            </p:blipFill>
            <p:spPr>
              <a:xfrm>
                <a:off x="6305400" y="3933720"/>
                <a:ext cx="1512720" cy="250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Rectángulo 22"/>
              <p:cNvSpPr/>
              <p:nvPr/>
            </p:nvSpPr>
            <p:spPr>
              <a:xfrm>
                <a:off x="6162840" y="6093000"/>
                <a:ext cx="229680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ff"/>
                    </a:solidFill>
                    <a:latin typeface="Arial"/>
                  </a:rPr>
                  <a:t>Ribulosa 5-fosf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Group 45"/>
          <p:cNvGrpSpPr/>
          <p:nvPr/>
        </p:nvGrpSpPr>
        <p:grpSpPr>
          <a:xfrm>
            <a:off x="5219640" y="1197000"/>
            <a:ext cx="3673440" cy="2307960"/>
            <a:chOff x="5219640" y="1197000"/>
            <a:chExt cx="3673440" cy="2307960"/>
          </a:xfrm>
        </p:grpSpPr>
        <p:grpSp>
          <p:nvGrpSpPr>
            <p:cNvPr id="110" name="Group 34"/>
            <p:cNvGrpSpPr/>
            <p:nvPr/>
          </p:nvGrpSpPr>
          <p:grpSpPr>
            <a:xfrm>
              <a:off x="6826320" y="1197000"/>
              <a:ext cx="2066760" cy="2307960"/>
              <a:chOff x="6826320" y="1197000"/>
              <a:chExt cx="2066760" cy="2307960"/>
            </a:xfrm>
          </p:grpSpPr>
          <p:pic>
            <p:nvPicPr>
              <p:cNvPr id="111" name="Imagen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59600" y="1197000"/>
                <a:ext cx="1763640" cy="23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Rectángulo 18"/>
              <p:cNvSpPr/>
              <p:nvPr/>
            </p:nvSpPr>
            <p:spPr>
              <a:xfrm>
                <a:off x="6826320" y="3141720"/>
                <a:ext cx="206676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6-fosfoglucon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33"/>
            <p:cNvGrpSpPr/>
            <p:nvPr/>
          </p:nvGrpSpPr>
          <p:grpSpPr>
            <a:xfrm>
              <a:off x="5219640" y="2060640"/>
              <a:ext cx="1541520" cy="515520"/>
              <a:chOff x="5219640" y="2060640"/>
              <a:chExt cx="1541520" cy="515520"/>
            </a:xfrm>
          </p:grpSpPr>
          <p:sp>
            <p:nvSpPr>
              <p:cNvPr id="114" name="Línea 11"/>
              <p:cNvSpPr/>
              <p:nvPr/>
            </p:nvSpPr>
            <p:spPr>
              <a:xfrm>
                <a:off x="5380200" y="2060640"/>
                <a:ext cx="114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ángulo 26"/>
              <p:cNvSpPr/>
              <p:nvPr/>
            </p:nvSpPr>
            <p:spPr>
              <a:xfrm>
                <a:off x="5219640" y="2212920"/>
                <a:ext cx="154152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Arial"/>
                  </a:rPr>
                  <a:t>Lacto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35"/>
          <p:cNvGrpSpPr/>
          <p:nvPr/>
        </p:nvGrpSpPr>
        <p:grpSpPr>
          <a:xfrm>
            <a:off x="289080" y="1197000"/>
            <a:ext cx="5219640" cy="2463480"/>
            <a:chOff x="289080" y="1197000"/>
            <a:chExt cx="5219640" cy="2463480"/>
          </a:xfrm>
        </p:grpSpPr>
        <p:pic>
          <p:nvPicPr>
            <p:cNvPr id="117" name="Imagen 5" descr=""/>
            <p:cNvPicPr/>
            <p:nvPr/>
          </p:nvPicPr>
          <p:blipFill>
            <a:blip r:embed="rId4"/>
            <a:stretch/>
          </p:blipFill>
          <p:spPr>
            <a:xfrm>
              <a:off x="384480" y="1197000"/>
              <a:ext cx="475272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ángulo 7"/>
            <p:cNvSpPr/>
            <p:nvPr/>
          </p:nvSpPr>
          <p:spPr>
            <a:xfrm>
              <a:off x="289080" y="3297240"/>
              <a:ext cx="22194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Arial"/>
                </a:rPr>
                <a:t>Glucosa-6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ángulo 8"/>
            <p:cNvSpPr/>
            <p:nvPr/>
          </p:nvSpPr>
          <p:spPr>
            <a:xfrm>
              <a:off x="2832120" y="3284640"/>
              <a:ext cx="26766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6-fosfogluconolacto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ángulo 9"/>
            <p:cNvSpPr/>
            <p:nvPr/>
          </p:nvSpPr>
          <p:spPr>
            <a:xfrm>
              <a:off x="1679760" y="2060640"/>
              <a:ext cx="1942920" cy="575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Glucosa-6-fosfato deshidro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40"/>
          <p:cNvGrpSpPr/>
          <p:nvPr/>
        </p:nvGrpSpPr>
        <p:grpSpPr>
          <a:xfrm>
            <a:off x="1979640" y="4005360"/>
            <a:ext cx="3816000" cy="718920"/>
            <a:chOff x="1979640" y="4005360"/>
            <a:chExt cx="3816000" cy="718920"/>
          </a:xfrm>
        </p:grpSpPr>
        <p:sp>
          <p:nvSpPr>
            <p:cNvPr id="122" name="Oval 38"/>
            <p:cNvSpPr/>
            <p:nvPr/>
          </p:nvSpPr>
          <p:spPr>
            <a:xfrm>
              <a:off x="1979640" y="4005360"/>
              <a:ext cx="672840" cy="287280"/>
            </a:xfrm>
            <a:prstGeom prst="ellips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rc 39"/>
            <p:cNvSpPr/>
            <p:nvPr/>
          </p:nvSpPr>
          <p:spPr>
            <a:xfrm>
              <a:off x="2652480" y="4005360"/>
              <a:ext cx="3143160" cy="718920"/>
            </a:xfrm>
            <a:prstGeom prst="pie">
              <a:avLst/>
            </a:prstGeom>
            <a:noFill/>
            <a:ln w="38160">
              <a:solidFill>
                <a:srgbClr val="00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43"/>
          <p:cNvSpPr/>
          <p:nvPr/>
        </p:nvSpPr>
        <p:spPr>
          <a:xfrm>
            <a:off x="2916360" y="126828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4"/>
          <p:cNvSpPr/>
          <p:nvPr/>
        </p:nvSpPr>
        <p:spPr>
          <a:xfrm>
            <a:off x="4284720" y="4581360"/>
            <a:ext cx="1368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4"/>
          <p:cNvSpPr/>
          <p:nvPr/>
        </p:nvSpPr>
        <p:spPr>
          <a:xfrm>
            <a:off x="6786720" y="4711680"/>
            <a:ext cx="7142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Comic Sans MS"/>
              </a:rPr>
              <a:t>REACCIONES DE LA FASE NO OXID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2"/>
          <p:cNvGrpSpPr/>
          <p:nvPr/>
        </p:nvGrpSpPr>
        <p:grpSpPr>
          <a:xfrm>
            <a:off x="73080" y="2565360"/>
            <a:ext cx="1834560" cy="1981440"/>
            <a:chOff x="73080" y="2565360"/>
            <a:chExt cx="1834560" cy="1981440"/>
          </a:xfrm>
        </p:grpSpPr>
        <p:pic>
          <p:nvPicPr>
            <p:cNvPr id="129" name="Imagen 7" descr=""/>
            <p:cNvPicPr/>
            <p:nvPr/>
          </p:nvPicPr>
          <p:blipFill>
            <a:blip r:embed="rId1"/>
            <a:srcRect l="0" t="0" r="64840" b="0"/>
            <a:stretch/>
          </p:blipFill>
          <p:spPr>
            <a:xfrm>
              <a:off x="73080" y="2565360"/>
              <a:ext cx="16920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Cuadro de texto 10"/>
            <p:cNvSpPr/>
            <p:nvPr/>
          </p:nvSpPr>
          <p:spPr>
            <a:xfrm>
              <a:off x="107640" y="414792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Arial"/>
                </a:rPr>
                <a:t>Ribul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23"/>
          <p:cNvGrpSpPr/>
          <p:nvPr/>
        </p:nvGrpSpPr>
        <p:grpSpPr>
          <a:xfrm>
            <a:off x="2556000" y="1197000"/>
            <a:ext cx="1800000" cy="2056320"/>
            <a:chOff x="2556000" y="1197000"/>
            <a:chExt cx="1800000" cy="2056320"/>
          </a:xfrm>
        </p:grpSpPr>
        <p:pic>
          <p:nvPicPr>
            <p:cNvPr id="132" name="Imagen 8" descr=""/>
            <p:cNvPicPr/>
            <p:nvPr/>
          </p:nvPicPr>
          <p:blipFill>
            <a:blip r:embed="rId2"/>
            <a:srcRect l="62862" t="0" r="0" b="0"/>
            <a:stretch/>
          </p:blipFill>
          <p:spPr>
            <a:xfrm>
              <a:off x="2556000" y="1197000"/>
              <a:ext cx="17874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Cuadro de texto 11"/>
            <p:cNvSpPr/>
            <p:nvPr/>
          </p:nvSpPr>
          <p:spPr>
            <a:xfrm>
              <a:off x="2556000" y="285444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Arial"/>
                </a:rPr>
                <a:t>Xilul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6"/>
          <p:cNvGrpSpPr/>
          <p:nvPr/>
        </p:nvGrpSpPr>
        <p:grpSpPr>
          <a:xfrm>
            <a:off x="2698920" y="3789360"/>
            <a:ext cx="1872720" cy="2488320"/>
            <a:chOff x="2698920" y="3789360"/>
            <a:chExt cx="1872720" cy="2488320"/>
          </a:xfrm>
        </p:grpSpPr>
        <p:pic>
          <p:nvPicPr>
            <p:cNvPr id="135" name="Imagen 9" descr=""/>
            <p:cNvPicPr/>
            <p:nvPr/>
          </p:nvPicPr>
          <p:blipFill>
            <a:blip r:embed="rId3"/>
            <a:srcRect l="22515" t="6203" r="59232" b="16438"/>
            <a:stretch/>
          </p:blipFill>
          <p:spPr>
            <a:xfrm>
              <a:off x="2698920" y="3789360"/>
              <a:ext cx="1679400" cy="22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Cuadro de texto 12"/>
            <p:cNvSpPr/>
            <p:nvPr/>
          </p:nvSpPr>
          <p:spPr>
            <a:xfrm>
              <a:off x="2771640" y="587880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8"/>
          <p:cNvGrpSpPr/>
          <p:nvPr/>
        </p:nvGrpSpPr>
        <p:grpSpPr>
          <a:xfrm>
            <a:off x="4500720" y="2997360"/>
            <a:ext cx="2303280" cy="1015920"/>
            <a:chOff x="4500720" y="2997360"/>
            <a:chExt cx="2303280" cy="1015920"/>
          </a:xfrm>
        </p:grpSpPr>
        <p:sp>
          <p:nvSpPr>
            <p:cNvPr id="138" name="Línea 15"/>
            <p:cNvSpPr/>
            <p:nvPr/>
          </p:nvSpPr>
          <p:spPr>
            <a:xfrm>
              <a:off x="4500720" y="3454560"/>
              <a:ext cx="23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Cuadro de texto 16"/>
            <p:cNvSpPr/>
            <p:nvPr/>
          </p:nvSpPr>
          <p:spPr>
            <a:xfrm>
              <a:off x="4572000" y="2997360"/>
              <a:ext cx="2016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ranscetol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(TP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ínea 19"/>
            <p:cNvSpPr/>
            <p:nvPr/>
          </p:nvSpPr>
          <p:spPr>
            <a:xfrm>
              <a:off x="4500720" y="3598920"/>
              <a:ext cx="22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5"/>
          <p:cNvGrpSpPr/>
          <p:nvPr/>
        </p:nvGrpSpPr>
        <p:grpSpPr>
          <a:xfrm>
            <a:off x="6804000" y="1484280"/>
            <a:ext cx="2160720" cy="5185440"/>
            <a:chOff x="6804000" y="1484280"/>
            <a:chExt cx="2160720" cy="5185440"/>
          </a:xfrm>
        </p:grpSpPr>
        <p:grpSp>
          <p:nvGrpSpPr>
            <p:cNvPr id="142" name="Group 21"/>
            <p:cNvGrpSpPr/>
            <p:nvPr/>
          </p:nvGrpSpPr>
          <p:grpSpPr>
            <a:xfrm>
              <a:off x="6804000" y="3949560"/>
              <a:ext cx="2160720" cy="2720160"/>
              <a:chOff x="6804000" y="3949560"/>
              <a:chExt cx="2160720" cy="2720160"/>
            </a:xfrm>
          </p:grpSpPr>
          <p:pic>
            <p:nvPicPr>
              <p:cNvPr id="143" name="Imagen 6" descr=""/>
              <p:cNvPicPr/>
              <p:nvPr/>
            </p:nvPicPr>
            <p:blipFill>
              <a:blip r:embed="rId4"/>
              <a:srcRect l="72206" t="0" r="9717" b="16438"/>
              <a:stretch/>
            </p:blipFill>
            <p:spPr>
              <a:xfrm>
                <a:off x="6910560" y="3949560"/>
                <a:ext cx="1693800" cy="245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Cuadro de texto 14"/>
              <p:cNvSpPr/>
              <p:nvPr/>
            </p:nvSpPr>
            <p:spPr>
              <a:xfrm>
                <a:off x="6804000" y="6332400"/>
                <a:ext cx="21607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ff"/>
                    </a:solidFill>
                    <a:latin typeface="Arial"/>
                  </a:rPr>
                  <a:t>Sedoheptulosa-7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20"/>
            <p:cNvGrpSpPr/>
            <p:nvPr/>
          </p:nvGrpSpPr>
          <p:grpSpPr>
            <a:xfrm>
              <a:off x="6805440" y="1484280"/>
              <a:ext cx="2087280" cy="1850400"/>
              <a:chOff x="6805440" y="1484280"/>
              <a:chExt cx="2087280" cy="1850400"/>
            </a:xfrm>
          </p:grpSpPr>
          <p:sp>
            <p:nvSpPr>
              <p:cNvPr id="146" name="Cuadro de texto 13"/>
              <p:cNvSpPr/>
              <p:nvPr/>
            </p:nvSpPr>
            <p:spPr>
              <a:xfrm>
                <a:off x="6805440" y="2997360"/>
                <a:ext cx="20872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Arial"/>
                  </a:rPr>
                  <a:t>Gliceraldehído 3-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" name="Imagen 6" descr=""/>
              <p:cNvPicPr/>
              <p:nvPr/>
            </p:nvPicPr>
            <p:blipFill>
              <a:blip r:embed="rId5"/>
              <a:srcRect l="51456" t="25642" r="32476" b="16438"/>
              <a:stretch/>
            </p:blipFill>
            <p:spPr>
              <a:xfrm>
                <a:off x="7059240" y="1484280"/>
                <a:ext cx="1401840" cy="158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8" name="Group 28"/>
          <p:cNvGrpSpPr/>
          <p:nvPr/>
        </p:nvGrpSpPr>
        <p:grpSpPr>
          <a:xfrm>
            <a:off x="1304640" y="2033280"/>
            <a:ext cx="1395720" cy="1324440"/>
            <a:chOff x="1304640" y="2033280"/>
            <a:chExt cx="1395720" cy="1324440"/>
          </a:xfrm>
        </p:grpSpPr>
        <p:sp>
          <p:nvSpPr>
            <p:cNvPr id="149" name="Cuadro de texto 18"/>
            <p:cNvSpPr/>
            <p:nvPr/>
          </p:nvSpPr>
          <p:spPr>
            <a:xfrm rot="19146600">
              <a:off x="1259280" y="2455560"/>
              <a:ext cx="144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74027"/>
                  </a:solidFill>
                  <a:latin typeface="Times New Roman"/>
                </a:rPr>
                <a:t>Epi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4"/>
            <p:cNvSpPr/>
            <p:nvPr/>
          </p:nvSpPr>
          <p:spPr>
            <a:xfrm flipV="1">
              <a:off x="1619280" y="2421000"/>
              <a:ext cx="108108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9"/>
          <p:cNvGrpSpPr/>
          <p:nvPr/>
        </p:nvGrpSpPr>
        <p:grpSpPr>
          <a:xfrm>
            <a:off x="1758600" y="3241800"/>
            <a:ext cx="1195560" cy="1482480"/>
            <a:chOff x="1758600" y="3241800"/>
            <a:chExt cx="1195560" cy="1482480"/>
          </a:xfrm>
        </p:grpSpPr>
        <p:sp>
          <p:nvSpPr>
            <p:cNvPr id="152" name="Line 25"/>
            <p:cNvSpPr/>
            <p:nvPr/>
          </p:nvSpPr>
          <p:spPr>
            <a:xfrm>
              <a:off x="1763640" y="3573360"/>
              <a:ext cx="8654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Cuadro de texto 18"/>
            <p:cNvSpPr/>
            <p:nvPr/>
          </p:nvSpPr>
          <p:spPr>
            <a:xfrm rot="3139800">
              <a:off x="1636200" y="3733920"/>
              <a:ext cx="144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74027"/>
                  </a:solidFill>
                  <a:latin typeface="Times New Roman"/>
                </a:rPr>
                <a:t>Iso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Oval 30"/>
          <p:cNvSpPr/>
          <p:nvPr/>
        </p:nvSpPr>
        <p:spPr>
          <a:xfrm>
            <a:off x="468360" y="2924280"/>
            <a:ext cx="7189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1"/>
          <p:cNvSpPr/>
          <p:nvPr/>
        </p:nvSpPr>
        <p:spPr>
          <a:xfrm>
            <a:off x="3059280" y="3933720"/>
            <a:ext cx="7189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6"/>
          <p:cNvGrpSpPr/>
          <p:nvPr/>
        </p:nvGrpSpPr>
        <p:grpSpPr>
          <a:xfrm>
            <a:off x="2700360" y="1125360"/>
            <a:ext cx="2040840" cy="3200760"/>
            <a:chOff x="2700360" y="1125360"/>
            <a:chExt cx="2040840" cy="3200760"/>
          </a:xfrm>
        </p:grpSpPr>
        <p:sp>
          <p:nvSpPr>
            <p:cNvPr id="157" name="Rectángulo 17"/>
            <p:cNvSpPr/>
            <p:nvPr/>
          </p:nvSpPr>
          <p:spPr>
            <a:xfrm>
              <a:off x="2700360" y="1125360"/>
              <a:ext cx="1368360" cy="648000"/>
            </a:xfrm>
            <a:prstGeom prst="rect">
              <a:avLst/>
            </a:prstGeom>
            <a:solidFill>
              <a:srgbClr val="f2b6c0">
                <a:alpha val="23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rc 33"/>
            <p:cNvSpPr/>
            <p:nvPr/>
          </p:nvSpPr>
          <p:spPr>
            <a:xfrm rot="450600">
              <a:off x="3839760" y="1482840"/>
              <a:ext cx="720720" cy="2808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ángulo 17"/>
          <p:cNvSpPr/>
          <p:nvPr/>
        </p:nvSpPr>
        <p:spPr>
          <a:xfrm>
            <a:off x="7020000" y="3933720"/>
            <a:ext cx="1368360" cy="647640"/>
          </a:xfrm>
          <a:prstGeom prst="rect">
            <a:avLst/>
          </a:prstGeom>
          <a:solidFill>
            <a:srgbClr val="f2b6c0">
              <a:alpha val="2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Imagen 5" descr=""/>
          <p:cNvPicPr/>
          <p:nvPr/>
        </p:nvPicPr>
        <p:blipFill>
          <a:blip r:embed="rId1"/>
          <a:srcRect l="52262" t="30289" r="30098" b="16438"/>
          <a:stretch/>
        </p:blipFill>
        <p:spPr>
          <a:xfrm>
            <a:off x="179280" y="1197000"/>
            <a:ext cx="1873440" cy="1774800"/>
          </a:xfrm>
          <a:prstGeom prst="rect">
            <a:avLst/>
          </a:prstGeom>
          <a:ln w="0">
            <a:noFill/>
          </a:ln>
        </p:spPr>
      </p:pic>
      <p:sp>
        <p:nvSpPr>
          <p:cNvPr id="161" name="Cuadro de texto 7"/>
          <p:cNvSpPr/>
          <p:nvPr/>
        </p:nvSpPr>
        <p:spPr>
          <a:xfrm>
            <a:off x="1908000" y="342252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Sedoheptulosa-7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Imagen 14" descr=""/>
          <p:cNvPicPr/>
          <p:nvPr/>
        </p:nvPicPr>
        <p:blipFill>
          <a:blip r:embed="rId2"/>
          <a:srcRect l="0" t="0" r="77613" b="13971"/>
          <a:stretch/>
        </p:blipFill>
        <p:spPr>
          <a:xfrm>
            <a:off x="1979640" y="907920"/>
            <a:ext cx="2104920" cy="2592360"/>
          </a:xfrm>
          <a:prstGeom prst="rect">
            <a:avLst/>
          </a:prstGeom>
          <a:ln w="0">
            <a:noFill/>
          </a:ln>
        </p:spPr>
      </p:pic>
      <p:sp>
        <p:nvSpPr>
          <p:cNvPr id="163" name="Cuadro de texto 6"/>
          <p:cNvSpPr/>
          <p:nvPr/>
        </p:nvSpPr>
        <p:spPr>
          <a:xfrm>
            <a:off x="325440" y="2852640"/>
            <a:ext cx="115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-3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40"/>
          <p:cNvGrpSpPr/>
          <p:nvPr/>
        </p:nvGrpSpPr>
        <p:grpSpPr>
          <a:xfrm>
            <a:off x="3780000" y="1330200"/>
            <a:ext cx="5329080" cy="2322720"/>
            <a:chOff x="3780000" y="1330200"/>
            <a:chExt cx="5329080" cy="2322720"/>
          </a:xfrm>
        </p:grpSpPr>
        <p:grpSp>
          <p:nvGrpSpPr>
            <p:cNvPr id="165" name="Group 39"/>
            <p:cNvGrpSpPr/>
            <p:nvPr/>
          </p:nvGrpSpPr>
          <p:grpSpPr>
            <a:xfrm>
              <a:off x="3780000" y="2095560"/>
              <a:ext cx="1728720" cy="469800"/>
              <a:chOff x="3780000" y="2095560"/>
              <a:chExt cx="1728720" cy="469800"/>
            </a:xfrm>
          </p:grpSpPr>
          <p:sp>
            <p:nvSpPr>
              <p:cNvPr id="166" name="Línea 10"/>
              <p:cNvSpPr/>
              <p:nvPr/>
            </p:nvSpPr>
            <p:spPr>
              <a:xfrm>
                <a:off x="4211640" y="2565360"/>
                <a:ext cx="93672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Cuadro de texto 11"/>
              <p:cNvSpPr/>
              <p:nvPr/>
            </p:nvSpPr>
            <p:spPr>
              <a:xfrm>
                <a:off x="3780000" y="2095560"/>
                <a:ext cx="172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Transaldo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33"/>
            <p:cNvGrpSpPr/>
            <p:nvPr/>
          </p:nvGrpSpPr>
          <p:grpSpPr>
            <a:xfrm>
              <a:off x="5437080" y="1330200"/>
              <a:ext cx="3672000" cy="2322720"/>
              <a:chOff x="5437080" y="1330200"/>
              <a:chExt cx="3672000" cy="2322720"/>
            </a:xfrm>
          </p:grpSpPr>
          <p:pic>
            <p:nvPicPr>
              <p:cNvPr id="169" name="Imagen 4" descr=""/>
              <p:cNvPicPr/>
              <p:nvPr/>
            </p:nvPicPr>
            <p:blipFill>
              <a:blip r:embed="rId3"/>
              <a:srcRect l="57558" t="11159" r="1097" b="17894"/>
              <a:stretch/>
            </p:blipFill>
            <p:spPr>
              <a:xfrm>
                <a:off x="5472000" y="1330200"/>
                <a:ext cx="3565440" cy="19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Cuadro de texto 9"/>
              <p:cNvSpPr/>
              <p:nvPr/>
            </p:nvSpPr>
            <p:spPr>
              <a:xfrm>
                <a:off x="7380360" y="3284640"/>
                <a:ext cx="1728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Fructosa-6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Cuadro de texto 19"/>
              <p:cNvSpPr/>
              <p:nvPr/>
            </p:nvSpPr>
            <p:spPr>
              <a:xfrm>
                <a:off x="5437080" y="3284640"/>
                <a:ext cx="1655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ff"/>
                    </a:solidFill>
                    <a:latin typeface="Arial"/>
                  </a:rPr>
                  <a:t>Eritrosa-4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Rectángulo 2"/>
          <p:cNvSpPr/>
          <p:nvPr/>
        </p:nvSpPr>
        <p:spPr>
          <a:xfrm>
            <a:off x="385920" y="189000"/>
            <a:ext cx="850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omic Sans MS"/>
              </a:rPr>
              <a:t>REACCIONES DE LA FASE NO OXIDATI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36"/>
          <p:cNvGrpSpPr/>
          <p:nvPr/>
        </p:nvGrpSpPr>
        <p:grpSpPr>
          <a:xfrm>
            <a:off x="898560" y="907920"/>
            <a:ext cx="2809800" cy="1081080"/>
            <a:chOff x="898560" y="907920"/>
            <a:chExt cx="2809800" cy="1081080"/>
          </a:xfrm>
        </p:grpSpPr>
        <p:sp>
          <p:nvSpPr>
            <p:cNvPr id="174" name="Rectángulo 13"/>
            <p:cNvSpPr/>
            <p:nvPr/>
          </p:nvSpPr>
          <p:spPr>
            <a:xfrm>
              <a:off x="2340000" y="907920"/>
              <a:ext cx="1368360" cy="1081080"/>
            </a:xfrm>
            <a:prstGeom prst="rect">
              <a:avLst/>
            </a:prstGeom>
            <a:noFill/>
            <a:ln w="44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rc 28"/>
            <p:cNvSpPr/>
            <p:nvPr/>
          </p:nvSpPr>
          <p:spPr>
            <a:xfrm flipH="1">
              <a:off x="898560" y="1197000"/>
              <a:ext cx="1441440" cy="576360"/>
            </a:xfrm>
            <a:prstGeom prst="pie">
              <a:avLst/>
            </a:prstGeom>
            <a:noFill/>
            <a:ln w="4428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42"/>
          <p:cNvGrpSpPr/>
          <p:nvPr/>
        </p:nvGrpSpPr>
        <p:grpSpPr>
          <a:xfrm>
            <a:off x="0" y="3429000"/>
            <a:ext cx="9144000" cy="3105000"/>
            <a:chOff x="0" y="3429000"/>
            <a:chExt cx="9144000" cy="3105000"/>
          </a:xfrm>
        </p:grpSpPr>
        <p:grpSp>
          <p:nvGrpSpPr>
            <p:cNvPr id="177" name="Group 41"/>
            <p:cNvGrpSpPr/>
            <p:nvPr/>
          </p:nvGrpSpPr>
          <p:grpSpPr>
            <a:xfrm>
              <a:off x="0" y="3429000"/>
              <a:ext cx="3882960" cy="2960640"/>
              <a:chOff x="0" y="3429000"/>
              <a:chExt cx="3882960" cy="2960640"/>
            </a:xfrm>
          </p:grpSpPr>
          <p:pic>
            <p:nvPicPr>
              <p:cNvPr id="178" name="Imagen 16" descr=""/>
              <p:cNvPicPr/>
              <p:nvPr/>
            </p:nvPicPr>
            <p:blipFill>
              <a:blip r:embed="rId4"/>
              <a:srcRect l="57558" t="0" r="21945" b="17894"/>
              <a:stretch/>
            </p:blipFill>
            <p:spPr>
              <a:xfrm>
                <a:off x="0" y="3429000"/>
                <a:ext cx="2017800" cy="2592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9" name="Group 30"/>
              <p:cNvGrpSpPr/>
              <p:nvPr/>
            </p:nvGrpSpPr>
            <p:grpSpPr>
              <a:xfrm>
                <a:off x="0" y="4078440"/>
                <a:ext cx="3882960" cy="2311200"/>
                <a:chOff x="0" y="4078440"/>
                <a:chExt cx="3882960" cy="2311200"/>
              </a:xfrm>
            </p:grpSpPr>
            <p:sp>
              <p:nvSpPr>
                <p:cNvPr id="180" name="Cuadro de texto 8"/>
                <p:cNvSpPr/>
                <p:nvPr/>
              </p:nvSpPr>
              <p:spPr>
                <a:xfrm>
                  <a:off x="0" y="6021360"/>
                  <a:ext cx="16556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ff"/>
                      </a:solidFill>
                      <a:latin typeface="Arial"/>
                    </a:rPr>
                    <a:t>Eritrosa-4-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81" name="Imagen 18" descr=""/>
                <p:cNvPicPr/>
                <p:nvPr/>
              </p:nvPicPr>
              <p:blipFill>
                <a:blip r:embed="rId5"/>
                <a:srcRect l="66643" t="0" r="0" b="0"/>
                <a:stretch/>
              </p:blipFill>
              <p:spPr>
                <a:xfrm>
                  <a:off x="1979640" y="4078440"/>
                  <a:ext cx="1903320" cy="230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Cuadro de texto 20"/>
                <p:cNvSpPr/>
                <p:nvPr/>
              </p:nvSpPr>
              <p:spPr>
                <a:xfrm>
                  <a:off x="1979640" y="6021360"/>
                  <a:ext cx="180036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ff"/>
                      </a:solidFill>
                      <a:latin typeface="Arial"/>
                    </a:rPr>
                    <a:t>Xilulosa-5-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Cuadro de texto 26"/>
                <p:cNvSpPr/>
                <p:nvPr/>
              </p:nvSpPr>
              <p:spPr>
                <a:xfrm>
                  <a:off x="1476360" y="486900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Group 38"/>
            <p:cNvGrpSpPr/>
            <p:nvPr/>
          </p:nvGrpSpPr>
          <p:grpSpPr>
            <a:xfrm>
              <a:off x="4861080" y="3968640"/>
              <a:ext cx="4282920" cy="2565360"/>
              <a:chOff x="4861080" y="3968640"/>
              <a:chExt cx="4282920" cy="2565360"/>
            </a:xfrm>
          </p:grpSpPr>
          <p:pic>
            <p:nvPicPr>
              <p:cNvPr id="185" name="Imagen 21" descr=""/>
              <p:cNvPicPr/>
              <p:nvPr/>
            </p:nvPicPr>
            <p:blipFill>
              <a:blip r:embed="rId6"/>
              <a:srcRect l="78452" t="0" r="0" b="19898"/>
              <a:stretch/>
            </p:blipFill>
            <p:spPr>
              <a:xfrm>
                <a:off x="7095960" y="3968640"/>
                <a:ext cx="2048040" cy="23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Cuadro de texto 23"/>
              <p:cNvSpPr/>
              <p:nvPr/>
            </p:nvSpPr>
            <p:spPr>
              <a:xfrm>
                <a:off x="4861080" y="5942160"/>
                <a:ext cx="2447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iceraldehído 3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7" name="Imagen 24" descr=""/>
              <p:cNvPicPr/>
              <p:nvPr/>
            </p:nvPicPr>
            <p:blipFill>
              <a:blip r:embed="rId7"/>
              <a:srcRect l="52245" t="32803" r="32703" b="16438"/>
              <a:stretch/>
            </p:blipFill>
            <p:spPr>
              <a:xfrm>
                <a:off x="5364000" y="4437000"/>
                <a:ext cx="149868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Cuadro de texto 25"/>
              <p:cNvSpPr/>
              <p:nvPr/>
            </p:nvSpPr>
            <p:spPr>
              <a:xfrm>
                <a:off x="7236000" y="6165720"/>
                <a:ext cx="1728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Fructosa-6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Cuadro de texto 27"/>
              <p:cNvSpPr/>
              <p:nvPr/>
            </p:nvSpPr>
            <p:spPr>
              <a:xfrm>
                <a:off x="6732720" y="497664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31"/>
            <p:cNvGrpSpPr/>
            <p:nvPr/>
          </p:nvGrpSpPr>
          <p:grpSpPr>
            <a:xfrm>
              <a:off x="3492360" y="4797360"/>
              <a:ext cx="2016000" cy="1008720"/>
              <a:chOff x="3492360" y="4797360"/>
              <a:chExt cx="2016000" cy="1008720"/>
            </a:xfrm>
          </p:grpSpPr>
          <p:sp>
            <p:nvSpPr>
              <p:cNvPr id="191" name="Línea 28"/>
              <p:cNvSpPr/>
              <p:nvPr/>
            </p:nvSpPr>
            <p:spPr>
              <a:xfrm>
                <a:off x="3852720" y="5229000"/>
                <a:ext cx="129708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Cuadro de texto 22"/>
              <p:cNvSpPr/>
              <p:nvPr/>
            </p:nvSpPr>
            <p:spPr>
              <a:xfrm>
                <a:off x="3492360" y="4797360"/>
                <a:ext cx="2016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Transceto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(TPP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Group 37"/>
          <p:cNvGrpSpPr/>
          <p:nvPr/>
        </p:nvGrpSpPr>
        <p:grpSpPr>
          <a:xfrm>
            <a:off x="830160" y="3933720"/>
            <a:ext cx="2590920" cy="936720"/>
            <a:chOff x="830160" y="3933720"/>
            <a:chExt cx="2590920" cy="936720"/>
          </a:xfrm>
        </p:grpSpPr>
        <p:sp>
          <p:nvSpPr>
            <p:cNvPr id="194" name="Rectángulo 31"/>
            <p:cNvSpPr/>
            <p:nvPr/>
          </p:nvSpPr>
          <p:spPr>
            <a:xfrm>
              <a:off x="2124000" y="3933720"/>
              <a:ext cx="1297080" cy="936720"/>
            </a:xfrm>
            <a:prstGeom prst="rect">
              <a:avLst/>
            </a:prstGeom>
            <a:noFill/>
            <a:ln w="44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rc 32"/>
            <p:cNvSpPr/>
            <p:nvPr/>
          </p:nvSpPr>
          <p:spPr>
            <a:xfrm flipH="1">
              <a:off x="830160" y="4221000"/>
              <a:ext cx="1292400" cy="432000"/>
            </a:xfrm>
            <a:prstGeom prst="pie">
              <a:avLst/>
            </a:prstGeom>
            <a:noFill/>
            <a:ln w="4428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ángulo 31"/>
          <p:cNvSpPr/>
          <p:nvPr/>
        </p:nvSpPr>
        <p:spPr>
          <a:xfrm>
            <a:off x="7596360" y="3933720"/>
            <a:ext cx="936360" cy="719280"/>
          </a:xfrm>
          <a:prstGeom prst="rect">
            <a:avLst/>
          </a:prstGeom>
          <a:noFill/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ángulo 13"/>
          <p:cNvSpPr/>
          <p:nvPr/>
        </p:nvSpPr>
        <p:spPr>
          <a:xfrm>
            <a:off x="7451640" y="1341360"/>
            <a:ext cx="1297080" cy="935280"/>
          </a:xfrm>
          <a:prstGeom prst="rect">
            <a:avLst/>
          </a:prstGeom>
          <a:noFill/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34 fase oxid de VP"/>
          <p:cNvPicPr/>
          <p:nvPr/>
        </p:nvPicPr>
        <p:blipFill>
          <a:blip r:embed="rId1"/>
          <a:stretch/>
        </p:blipFill>
        <p:spPr>
          <a:xfrm>
            <a:off x="222120" y="1197000"/>
            <a:ext cx="8699760" cy="309888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9"/>
          <p:cNvGrpSpPr/>
          <p:nvPr/>
        </p:nvGrpSpPr>
        <p:grpSpPr>
          <a:xfrm>
            <a:off x="1403280" y="3213000"/>
            <a:ext cx="1081080" cy="1728720"/>
            <a:chOff x="1403280" y="3213000"/>
            <a:chExt cx="1081080" cy="1728720"/>
          </a:xfrm>
        </p:grpSpPr>
        <p:sp>
          <p:nvSpPr>
            <p:cNvPr id="200" name="Rectangle 6"/>
            <p:cNvSpPr/>
            <p:nvPr/>
          </p:nvSpPr>
          <p:spPr>
            <a:xfrm>
              <a:off x="1403280" y="3213000"/>
              <a:ext cx="1081080" cy="50328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7"/>
            <p:cNvSpPr/>
            <p:nvPr/>
          </p:nvSpPr>
          <p:spPr>
            <a:xfrm>
              <a:off x="1908000" y="3716280"/>
              <a:ext cx="0" cy="1225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8"/>
          <p:cNvSpPr/>
          <p:nvPr/>
        </p:nvSpPr>
        <p:spPr>
          <a:xfrm>
            <a:off x="324000" y="5033880"/>
            <a:ext cx="398124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Enzima limitante de la velocidad o enzima reguladora de la Vía de las Pent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7"/>
          <p:cNvGrpSpPr/>
          <p:nvPr/>
        </p:nvGrpSpPr>
        <p:grpSpPr>
          <a:xfrm>
            <a:off x="4357800" y="4581360"/>
            <a:ext cx="4522680" cy="847440"/>
            <a:chOff x="4357800" y="4581360"/>
            <a:chExt cx="4522680" cy="847440"/>
          </a:xfrm>
        </p:grpSpPr>
        <p:sp>
          <p:nvSpPr>
            <p:cNvPr id="204" name="Line 10"/>
            <p:cNvSpPr/>
            <p:nvPr/>
          </p:nvSpPr>
          <p:spPr>
            <a:xfrm flipV="1">
              <a:off x="4357800" y="4797000"/>
              <a:ext cx="645840" cy="6318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1"/>
            <p:cNvSpPr/>
            <p:nvPr/>
          </p:nvSpPr>
          <p:spPr>
            <a:xfrm>
              <a:off x="4939920" y="4581360"/>
              <a:ext cx="39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Inhibida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alostéricamente por el NADP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19 Grupo"/>
          <p:cNvGrpSpPr/>
          <p:nvPr/>
        </p:nvGrpSpPr>
        <p:grpSpPr>
          <a:xfrm>
            <a:off x="4384800" y="5072040"/>
            <a:ext cx="2874960" cy="379440"/>
            <a:chOff x="4384800" y="5072040"/>
            <a:chExt cx="2874960" cy="379440"/>
          </a:xfrm>
        </p:grpSpPr>
        <p:sp>
          <p:nvSpPr>
            <p:cNvPr id="207" name="Line 15"/>
            <p:cNvSpPr/>
            <p:nvPr/>
          </p:nvSpPr>
          <p:spPr>
            <a:xfrm flipV="1">
              <a:off x="4384800" y="5235480"/>
              <a:ext cx="792000" cy="2160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4"/>
            <p:cNvSpPr/>
            <p:nvPr/>
          </p:nvSpPr>
          <p:spPr>
            <a:xfrm>
              <a:off x="5152680" y="5072040"/>
              <a:ext cx="21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ff"/>
                  </a:solidFill>
                  <a:latin typeface="Arial"/>
                </a:rPr>
                <a:t>Activada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por NADP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18 Grupo"/>
          <p:cNvGrpSpPr/>
          <p:nvPr/>
        </p:nvGrpSpPr>
        <p:grpSpPr>
          <a:xfrm>
            <a:off x="4286160" y="5592600"/>
            <a:ext cx="4348800" cy="337320"/>
            <a:chOff x="4286160" y="5592600"/>
            <a:chExt cx="4348800" cy="337320"/>
          </a:xfrm>
        </p:grpSpPr>
        <p:sp>
          <p:nvSpPr>
            <p:cNvPr id="210" name="Text Box 13"/>
            <p:cNvSpPr/>
            <p:nvPr/>
          </p:nvSpPr>
          <p:spPr>
            <a:xfrm>
              <a:off x="5179320" y="5592600"/>
              <a:ext cx="34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Inhibida </a:t>
              </a:r>
              <a:r>
                <a:rPr b="1" lang="es-ES" sz="1600" spc="-1" strike="noStrike">
                  <a:solidFill>
                    <a:srgbClr val="009900"/>
                  </a:solidFill>
                  <a:latin typeface="Arial"/>
                </a:rPr>
                <a:t>por la luz en cloroplas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>
              <a:off x="4286160" y="5643360"/>
              <a:ext cx="863640" cy="14436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0"/>
          <p:cNvSpPr/>
          <p:nvPr/>
        </p:nvSpPr>
        <p:spPr>
          <a:xfrm>
            <a:off x="691560" y="260280"/>
            <a:ext cx="78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Arial"/>
              </a:rPr>
              <a:t>Regulación de la Vía de las Pentosas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20:58:07Z</dcterms:created>
  <dc:creator>Colossus User</dc:creator>
  <dc:description/>
  <dc:language>en-US</dc:language>
  <cp:lastModifiedBy>Your User Name</cp:lastModifiedBy>
  <dcterms:modified xsi:type="dcterms:W3CDTF">2014-05-05T20:49:12Z</dcterms:modified>
  <cp:revision>55</cp:revision>
  <dc:subject/>
  <dc:title>Diapositiva 1</dc:title>
</cp:coreProperties>
</file>